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8753-52B2-4B25-9C2E-E01A651044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A664-2CA2-490F-83C8-2532606F31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F1D-7F3B-481E-A130-05C03FA4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BFD-739E-4A80-8AA3-3D35215A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A40-F4FF-4423-9C73-15CCFDD4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50D-C95D-493A-A0E8-40E5EF79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AE05-D025-49DB-BF06-71BFA4A1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56B4-7063-4C88-9731-AF74FC39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D89F-1883-4A2D-A5C2-A1B75082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F69E-4F9F-419A-8618-56EF834B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97EA-80B7-418A-82B4-47AA3DBD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8F96-C01B-45D0-9B5C-3E7958D5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92BA-EA0C-4695-8ACF-C9106E95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7D0-2C79-4FE6-A1C1-3B0179BD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EF85-FA78-48CA-B7F1-6868D88F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2659-A7B7-4360-A2DB-8BE73945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2624-30E0-4052-AD50-8B21BB0F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126A-F509-487B-9768-17A8018F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6DE8-6F9B-45D3-830A-56F16DED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2B4-49A3-42A5-B2E9-1069608F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E1B-93B9-4FAC-BFDD-22ADB53F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DBC-03FD-4C41-9310-BD66EF3A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1FD-BE11-4D00-A4DF-30D5BD98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D3E-6C0E-4867-88DD-C0F20BCE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EDE-3F73-4C4A-A063-DDBFFBB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C19-16C3-4D5B-8ACA-DDAD9CA4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A326-A8D9-49A9-9E4A-9EB968C1AE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4AB0-0598-4117-80A3-13A63C6C995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F665-6673-4C8B-8E6F-7ECEC8A52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3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7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0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3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33520" y="1828800"/>
            <a:ext cx="7859520" cy="398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каз Минсельхоза России от 06.03.2020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1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 утверждении порядка посева и посадки подкарантинной продукции, ввезенной в Российскую Федерацию из иностранных государств или групп иностранных государств, где выявлено распространение карантинных объектов, характерных для такой подкарантинной продукц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09C4-6435-486E-A1DF-B1142FA3CE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97844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314280" y="45072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4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67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7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2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04.04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741240" y="2362320"/>
            <a:ext cx="806616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почта (krasn.zemkontrol@mail.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9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87880" y="1676520"/>
          <a:ext cx="5630760" cy="457200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188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1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5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9000"/>
          </a:bodyPr>
          <a:p>
            <a:pPr indent="45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ям Правительства РФ от 14.03.2022 N 362 «О введении временного запрета на вывоз зерновых культур за пределы территории Российской Федерации», а также Постановлением Правительства от 31.03.2022 № 529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 С 15 марта по 30 июня 2022 г. установлен временный запрет на вывоз из Российской Федерации пшеницы и меслина, ржи, ячменя и кукуруз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у Абхазия, Республику Южная Осетия, Донецкую Народную Республику и Луганскую Народную Республик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разовых лицензий на экспор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данных Министерством промышленности и торговли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у Белоруссию в рамках Союзного государ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 апреля по 31 августа установлен запрет на вывоз рапса и подсолнечни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мена рапса и подсолнечника, вывозимые с территории Российской Федерации в государства - члены Евразийского экономического союз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мена рапса и подсолнечника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7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41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1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8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4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7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4-05T02:38:33Z</dcterms:modified>
  <cp:revision>9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